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38F-54E1-4125-BBA5-CD3C5326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DDA-C4FD-4F88-A7AD-E650D56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637-CB7B-44DA-B09D-A4F90936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BBC-8AFC-4C81-8E0F-26CD510A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144-3682-4DCE-AE46-7700A079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C341-EC44-4283-ADE2-19B1F7A1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B436-0DCE-47D6-A800-69B56B0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87B-62FD-48B8-A8AB-F96C4BB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06D1-CB84-4D98-859D-74EF895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B088-A861-49E7-9874-95972825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D8B-5553-495E-8979-B6D52A0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3A5-6FAD-4BEF-AA3D-188BB4A3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CE60-8037-4F7F-B125-C17875A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AFAF-7B6E-4765-AE8B-CC39721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96E7-22A2-4602-8970-6C04547B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01A6-5BBB-4CBC-B674-860C1AC9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2F6B-E889-408C-B13A-948491E0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4339-DF9D-4A7C-A1B2-1A3F9B75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E7EB-0D27-4DB1-BB0B-8BF6214F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474D-F5FE-4B74-984E-B6919B14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3584-37A5-49E0-8004-499DF09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EF5F-9AB7-43BA-8FF6-945623A1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796-2BD6-46F3-A403-5B42FFE1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BC7C-4169-4AF3-A838-F4E68817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8A7E-BF09-4DA7-9B6B-71303E5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8DFE-14D5-4AE6-B481-402297E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943E-131C-48DB-BBEF-E78F173F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5741-3DFD-4580-A8D3-55E2C0B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F23E-F174-4495-82E1-6978CED7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DD43-E28B-4C61-AE7E-239F34DB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B702-8D8C-4F53-A52C-CF81B8D7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75F8-C0CB-4636-9625-D4B7F33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5CFE-4CEB-475C-9C95-4ED470CC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60C-DC37-4121-81AB-101101C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4ADE-74AB-4550-A4A1-7C9CA00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4425-76B8-4B3E-988C-F20C8F3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2025-C11C-401A-BE45-57DBFA1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28FE-9F8B-46E9-ADEE-688D680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413E-64FC-4B88-80AD-F678283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D09E-FAC2-435D-912E-7876858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AF6B-E2AA-43E7-ACCE-1CBFE7F9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DD9C-6626-4568-A1EF-F9AF4E5C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CDB0-A17C-4575-9591-ED35A1A1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C308-A000-407A-8716-F2984CE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5EF-E9AB-4E06-A1F5-845E031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DF47-3FEB-4B4B-BF0A-BDD0B76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B299-4143-4B9F-A15D-19F57DB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61F0-690A-42B3-8999-EADC84B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9CB5-E9B8-474A-B84E-FB7CA6AA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16FE-3648-4E82-917D-8BC2A0A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0D83-DE0D-4C10-B6FE-14A7393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A7EA-FDAA-400B-8264-82ADA09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AD80-4B94-4979-8D21-5A27DA1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A9A39-7F87-4363-9473-931221E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8993-D2E3-4528-A800-B7708C38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B2A-D6F6-4ACF-80CA-0EA6E3CC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11E21-CAE0-4C33-B950-57575503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C3E2-DFD7-4EA8-A5FF-ACAEABF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AF3D0-8DC9-48CB-BB60-8C495476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AC7BB-C85F-4D8C-AEFF-47103AE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D681-9422-450A-82E7-B7FE2DBB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63FE-76CF-422B-9135-F0AA943B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9F91-D07D-44DA-A5FC-8C161E00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45C9-5C09-4A99-8F81-8677BED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1A79-1C83-456F-9504-26EF611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3C399-D3FA-4532-9AAA-13F74EFB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F03-FCBA-47A9-A634-BEF9BD04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871F-1A75-464D-A707-96F6FFF1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C4D8-B073-4CA4-8246-FFA7032C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FF76-E1BA-4902-9125-E699F5C8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EA4BA-E992-46C9-8169-3D2A2ABE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6357-0240-43A9-8718-44AE569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FBB7D-CABE-4758-8F8F-38007F2E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2B3C6-BD18-4C3A-B157-52D7760B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8380-8B07-4232-B7A7-817F2194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B0D3-CE57-49D1-965D-0A3D8B1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06C7D-3F20-44C0-8098-DF94B7B8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E04-D15E-47C4-9FE1-762F4E0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62F23-5447-49EA-A67E-24D0B69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D291D-595B-4CC9-A968-011FFA66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D74A6-1218-46D4-B6AB-8290CEFB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B600-8FAB-4915-B4E4-1CCA1F8F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9E6B-87E5-4648-8014-04E0A9F7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503F-65B7-401B-8A59-10F06EF2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8876-940F-47F1-93CE-82D8FE2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0BCF8-F400-490B-B185-D87C074C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92AD-766D-4887-B173-2FEC4F6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7BD04-5942-42CF-95EB-DC54B659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932-432D-4748-87F8-5189DF4F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72BF9-2FD5-4C20-9A1F-4649F1AF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D8616-D866-4AB9-BC10-5911EEA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A583-650E-4B33-8A9D-E31313B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50797-DB84-4FF4-A005-43CEF92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51EE8-8893-4E4A-B638-76DEDD8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2A1A-7502-4AD5-975A-BC670001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07C2-ADFC-4260-85E7-840EE9D1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8DAB-7C8C-45A3-AE2F-DB9739D00ED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B91D-3B72-4833-87AB-72810997F0F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4FD-7EE8-4060-9D29-623BBD4E50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12B-466B-4AEB-9054-0453A7970C7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E50E-5507-40F0-A0F1-6054B77B9E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FB2-273E-4C43-AE07-65555D89D3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FEA1-3EF5-4354-B175-F83DAE6B863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0AA4-9923-4EA1-BB9F-999E125CA87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Lucida Sans Unicode"/>
              </a:rPr>
              <a:t>There are four types of sentences:</a:t>
            </a:r>
            <a:br>
              <a:rPr sz="2500"/>
            </a:br>
            <a:br>
              <a:rPr sz="2500"/>
            </a:br>
            <a:r>
              <a:rPr b="0" lang="en-US" sz="5000" spc="-1" strike="noStrike">
                <a:solidFill>
                  <a:srgbClr val="00b050"/>
                </a:solidFill>
                <a:latin typeface="Lucida Sans Unicode"/>
              </a:rPr>
              <a:t>Declarative 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Lucida Sans Unicode"/>
              </a:rPr>
              <a:t>Interrogative</a:t>
            </a:r>
            <a:br>
              <a:rPr sz="5000"/>
            </a:br>
            <a:r>
              <a:rPr b="0" lang="en-US" sz="5000" spc="-1" strike="noStrike">
                <a:solidFill>
                  <a:srgbClr val="ffc000"/>
                </a:solidFill>
                <a:latin typeface="Lucida Sans Unicode"/>
              </a:rPr>
              <a:t>Exclamatory</a:t>
            </a:r>
            <a:br>
              <a:rPr sz="5000"/>
            </a:br>
            <a:r>
              <a:rPr b="0" lang="en-US" sz="5000" spc="-1" strike="noStrike">
                <a:solidFill>
                  <a:srgbClr val="7030a0"/>
                </a:solidFill>
                <a:latin typeface="Lucida Sans Unicode"/>
              </a:rPr>
              <a:t>Imperative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Declara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declarative sentence makes a statement and is punctuated by a period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xample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ppy looks tired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Erica\AppData\Local\Microsoft\Windows\Temporary Internet Files\Content.IE5\HM1LP184\MCAN00643_0000[1].wmf"/>
          <p:cNvPicPr/>
          <p:nvPr/>
        </p:nvPicPr>
        <p:blipFill>
          <a:blip r:embed="rId1"/>
          <a:stretch/>
        </p:blipFill>
        <p:spPr>
          <a:xfrm>
            <a:off x="6858000" y="4114800"/>
            <a:ext cx="17524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Impera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imperative sentence is a command or polite request and it ends in a period or exclamation ma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xample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ease walk the dog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6" descr="C:\Users\Erica\AppData\Local\Microsoft\Windows\Temporary Internet Files\Content.IE5\UYLZ9YIY\MCj03833240000[1].wmf"/>
          <p:cNvPicPr/>
          <p:nvPr/>
        </p:nvPicPr>
        <p:blipFill>
          <a:blip r:embed="rId1"/>
          <a:stretch/>
        </p:blipFill>
        <p:spPr>
          <a:xfrm>
            <a:off x="6248520" y="4495680"/>
            <a:ext cx="2643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Exclamatory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exclamatory sentence expresses great emotion or excitement and ends in an exclamation ma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xample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use is on fire</a:t>
            </a: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2" descr="C:\Users\Erica\AppData\Local\Microsoft\Windows\Temporary Internet Files\Content.IE5\HM1LP184\MCj02902930000[1].wmf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Interroga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interrogative sentence asks a question and ends with a question ma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xample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it raining outside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5" descr="C:\Users\Erica\AppData\Local\Microsoft\Windows\Temporary Internet Files\Content.IE5\HM1LP184\MCj04108510000[1].wmf"/>
          <p:cNvPicPr/>
          <p:nvPr/>
        </p:nvPicPr>
        <p:blipFill>
          <a:blip r:embed="rId1"/>
          <a:stretch/>
        </p:blipFill>
        <p:spPr>
          <a:xfrm>
            <a:off x="5791320" y="2666880"/>
            <a:ext cx="27874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Read the sample paragraph below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y favorite type of fast food is pizza.  I could eat pizza morning, noon, or night.  Pepperoni is my number one choice.  I also like double cheese on top.  I wish I could order a pizza right now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Lucida Sans Unicode"/>
              </a:rPr>
              <a:t>Boring right? 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how we can use the four types of sentences and make it more interesting to the rea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Lucida Sans Unicode"/>
              </a:rPr>
              <a:t>What is your favorite type of fast food?  </a:t>
            </a:r>
            <a:r>
              <a:rPr b="1" lang="en-US" sz="4000" spc="-1" strike="noStrike">
                <a:solidFill>
                  <a:srgbClr val="00b050"/>
                </a:solidFill>
                <a:latin typeface="Lucida Sans Unicode"/>
              </a:rPr>
              <a:t>My favorite is pizza.  I just love pepperoni and double cheese.  </a:t>
            </a:r>
            <a:r>
              <a:rPr b="1" lang="en-US" sz="4000" spc="-1" strike="noStrike">
                <a:solidFill>
                  <a:srgbClr val="ffc000"/>
                </a:solidFill>
                <a:latin typeface="Lucida Sans Unicode"/>
              </a:rPr>
              <a:t>Sometimes I think I could eat pizza morning, noon, and night!  </a:t>
            </a:r>
            <a:r>
              <a:rPr b="1" lang="en-US" sz="4000" spc="-1" strike="noStrike">
                <a:solidFill>
                  <a:srgbClr val="00b050"/>
                </a:solidFill>
                <a:latin typeface="Lucida Sans Unicode"/>
              </a:rPr>
              <a:t>All of this talk about pizza is making me hungry.  </a:t>
            </a:r>
            <a:r>
              <a:rPr b="1" lang="en-US" sz="4000" spc="-1" strike="noStrike">
                <a:solidFill>
                  <a:srgbClr val="7030a0"/>
                </a:solidFill>
                <a:latin typeface="Lucida Sans Unicode"/>
              </a:rPr>
              <a:t>Let’s order a pizza now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his is more interesting, right?  In this sample we used the four different types of sentences.  They provide </a:t>
            </a:r>
            <a:r>
              <a:rPr b="0" i="1" lang="en-US" sz="4000" spc="-1" strike="noStrike">
                <a:solidFill>
                  <a:srgbClr val="000000"/>
                </a:solidFill>
                <a:latin typeface="바탕"/>
                <a:ea typeface="바탕"/>
              </a:rPr>
              <a:t>emotion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excitement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pizzazz</a:t>
            </a: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o our paragraph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3:16:26Z</dcterms:created>
  <dc:creator>Erica Hatt</dc:creator>
  <dc:description/>
  <dc:language>en-US</dc:language>
  <cp:lastModifiedBy>Erica Hatt</cp:lastModifiedBy>
  <dcterms:modified xsi:type="dcterms:W3CDTF">2009-01-20T00:56:49Z</dcterms:modified>
  <cp:revision>8</cp:revision>
  <dc:subject/>
  <dc:title>There are four types of sentences:  Declarative  Interrogative Exclamatory Imperative</dc:title>
</cp:coreProperties>
</file>